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8FA-1591-4FF6-B473-7E2D8D5C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7B6-8EA6-4FB1-9064-6B8DB0EE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D4475-AAE9-46C4-B2F6-F6074AA9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3CD63-533F-4A1E-973C-4C0F8BE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588EC-AFDC-4E0D-BAB7-D1BABAC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B43CB-E9A0-4D63-8B17-6232F31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E4DCC-1140-4034-9EF8-79182BC5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4700A-8081-4FB2-9F20-E6BB934F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0985A-DEDE-45B9-917F-33606F2A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D1601-9FB4-46A9-8938-067D4D2E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A94A1-D461-43C1-9EC6-A4B676BD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54D91-604C-4471-96F1-4C7E2A39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E2D-5271-4FED-9EE4-A48D62F9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A1150-8E96-44BF-B164-83D8958A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55346-E939-4A74-A817-5AC3833E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4F367-70DB-41AC-B26D-3679759E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A33DD-F063-48E5-B5CD-20DC4C2A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431AF-F91C-4D25-8A8C-857B41E9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1B622-F87B-4B43-9591-79F6F10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FA806-913B-430E-9F5F-255487B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470F7-8D0F-4E79-9864-CABDDD3A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A3BDD-B423-484E-B909-DEEC311E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77ABF-2F26-4C9E-91C9-C12B55B4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FC2-25DC-4F90-BB09-6834E165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724F8-D83B-49BE-A28F-2F3299C1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6FEFA-0B7B-4374-BB55-FA4E2BEF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58202-2754-47E4-BECE-62A7A73E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F7D0E-ADA6-4E11-B44E-30BC53F2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404DF-BA37-429A-A3D1-E9114D3B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E86D1-5739-41E5-8275-2B15194A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A7780-3AB7-4BF3-BADF-CEC9BE20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82C9E-605E-4E8D-81A8-0BB1C5B0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6FEF9-2B67-4574-848C-40A071BC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D9FDB-5BF4-4ED9-9CB8-68478533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B102-2A66-40B7-A263-0029BDEE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9F242-ACDD-46FE-BE59-D45B77FD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833F3-8713-4CF5-8BBE-7B8379F4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73834-E641-4EC1-8056-8BEB88FF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F1957-D6BC-44D5-B1FD-274755DC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C9B75-E460-4C9A-B0FF-967F616E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B96A7-19CD-41FF-9CA2-3E211D5C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8C4C3-0525-424C-8DDE-FC30AAE3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DA461-14C5-4C23-87B3-1C9F6F3A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CD2F6-A386-43A6-8F6C-7DF595DE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FFA9B-634F-4862-89F9-564BC94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52EE-9887-4022-8F59-2936088E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1824A-06B5-4BA7-B594-A7136F1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444EF-A415-4624-B6C3-603212B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1E66F-6FC9-4556-9740-FD550044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041F6-ABE9-47C1-8F80-65268563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AF496-C6E4-44BE-8ABA-AC076A5E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AA439-9CF4-4851-897D-80822C91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FFF2C-2263-44CF-9180-2001FA62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86898-F3AF-4A50-A4F0-0F2A7953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0257E-24EE-465E-9A0F-1A097DD5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B054D-197F-4DE2-8474-E3FD4C26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01BA-B787-4257-9565-45B1C2B7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0EBDC-0994-467C-BA2A-63C06779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7FF9D-DC20-4956-ABC3-A22FD159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65015-189D-418F-9898-D8882F66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50FB2-D35F-432B-8D2E-2088309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4A477-F995-47FC-B73F-6B86F587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E2A88-48EB-409B-8487-7C5CD720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21141-8153-45EC-9253-532577E5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D8299-F01C-4EFE-A572-8C22888A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AF931-235C-4DCE-AC92-81269A1A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4A636-C98D-44F0-AC03-D69A77AE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1BA6-F988-4E3A-A1FE-DEC9C4D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5D104-B991-4581-872D-7AAE6B72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96BC0-33ED-4EFA-97FB-8BEF03D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86143-3F17-4F9A-B6B7-4F501AF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97055-DC3F-47DB-82E3-67DBDFA7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7A31F-4126-4538-B39E-3B7E3BF3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A1CAE-2146-4B76-84D3-EF7B415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4DDE8-74D9-419A-8AEA-3AA4BEE8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195A0-4336-4E3A-9DDF-CB6E4349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63BF9-0476-4247-95B4-B6A11AD5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A5B9D-4E09-447E-AD71-B1171492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F1AE-04C0-477D-8457-3ACF1D9F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DA08E-411A-426A-8466-0559F9E4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39C79-64AE-42F4-92CB-1C4852C2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E16A6-76DD-40D8-8D36-4E1352F5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C9C6E-C950-49A7-9BF7-2FAE7F38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62B6D-4E5F-4AFD-B33F-A150563F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F3014-2093-4AE2-8061-921A4752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7A57D-CA07-4C3A-933E-970DE4B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37E08-EF6C-4D0A-93C5-5EC29E3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77930-2489-4A2E-B0A8-13E10817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226E5-5360-4C2E-9279-AD09AED5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1EA1-AE1B-4AD8-A343-FB3D3B50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00993-D851-46D3-A96A-E1223AAB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58218B-4211-44F9-8D18-77D90760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29016-AECE-4DC8-B329-FF0223A3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D1786-24E9-4005-AD84-FFA9B761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61253-7F89-4626-BFD2-1EBAE122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0F5D6-171A-409F-BCE5-043C2764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9555A-2725-4991-9BF2-21E152E5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CC2D6-A33D-41CD-B530-EC679797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E4302-C184-42DA-8ED7-3B45ABE8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CA7D4-3783-4022-B9E4-C5FC6E10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51B1-1D7D-40D6-8EDF-18C12B3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CF707-7C39-47CD-97E2-5C225BB1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2C740-7AA1-400F-9945-B88EB1FC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46612-697D-4185-A279-818A8B42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9BF21-409A-4C21-8B1C-AB83BDED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99425-D611-42A5-BB3A-691FFAB1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89935-3DC2-415D-A208-F8BEF031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9DF67C-F634-4DF7-B2D2-E672BFCE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1318D-EC00-43EA-A2E7-00CD7D5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388DD0-8703-4A16-9276-E8B29963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D9205-347E-4F32-9E42-534B4B2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B4E-4485-4FB0-877B-718749DA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FAF0-D198-4A45-A9F5-B045BCF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6CC4EF-216B-49CC-A3B7-7ACFD36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6CAB6-3FBD-4D3A-85AC-E8C115E9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85FE3D-FE02-49E7-8FF5-5C48076C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08D05-52B4-4F0C-BB87-26F79A73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F0AEA-2B04-4361-BEBE-01270DD0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2F274-780E-431D-AEA8-0E384998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B3D81F-C895-4ACE-B4C6-BF732672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8B996-A25E-47E5-BE60-09B1607C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2D810-8DED-43BE-A010-926C8F69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37214-AB8C-4923-95A9-D1E8D98E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0CDC-EE87-4010-878C-3B6561F7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C550B-4E85-440F-8AE4-AA1D6857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3AF175-5C22-4534-AFA0-0BA8C148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4098B-8401-41F0-A394-0E0CE44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AF8C0-9D4F-41E2-A1BE-39108BBE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A7F32-AFD8-4AB0-9F7B-D9A6A48E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E206D-F950-46AA-87A8-CEDC15CB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DE93F-9FA0-48D8-A4F1-7CC57772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631C9-3EC2-445C-8439-0D8373EB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18FC03-E391-492F-83DB-0C46CB98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EED11-E58E-43CA-B8FD-9EBD0DAE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19C1-C4B9-48C9-A2CD-E1C93860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CCB15-F403-4E88-AE2E-CCCF82AC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9ED97-B42E-4845-BD60-106FDCB6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EA4D0-DDD2-4494-A044-3C96765A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B1F14-BFC9-4D48-93F0-5211D27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ED77E-F169-46CB-A27B-4E13613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D05BF-F6F3-4EF3-8900-C806714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022F8-169C-4020-B3E5-2D30E3DF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98018-18B2-471F-ACA8-309052BC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82A4D-4B95-429E-A31D-C3AC2679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801984-7B1E-4A57-AEFD-9C825E85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1A1E-E4FE-4206-BBCA-F5546C47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F72DFF-15FE-4139-84C2-FB9D5BD3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44EE1-1422-4EBC-BF84-7F12247F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F1E75E-7EAB-467B-8571-B6FE2820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9C25F5-E04E-4695-870E-FBC0C191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FC8ED-5481-4C70-90DE-932A3D73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DB3394-00B5-4A40-A1C1-CE7F7793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C4F3F3-921E-437C-9073-59DD3FC2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40172-91B7-42AA-954A-D1B50CC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D88C41-C405-4E7B-BD43-0DD602DA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D1EE1-3100-4D7A-9FF8-5E5332AC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B554-3D9D-4A47-A04A-EE1F83F4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71778-86FF-43E2-9C55-DF507EED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F6A86-BEDE-4D31-A95B-36CD4D67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7BB01-C9A1-4A3D-B51D-829C322C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6665F4-425E-4CAD-B3BB-D7D2B150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A4B25-C4FC-4066-A2E2-4837D948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06D3B-A15E-4385-8EF6-1531DB93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789B37-A322-49FC-BCA5-EAD0F10D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AD177C-E57D-455C-888B-8A13688F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E5B877-7D83-4127-9756-8E2CB9D5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3DAA2-01F9-48A3-994B-3AA9221A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9CA37-7649-405F-B9F0-41278DEE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B9634A-CDD6-4A89-9C90-32B3C557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F54EB-6422-470D-A303-FCAC7B82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3200E9-1595-4DE9-8F4D-DDC9044B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83C8-7505-4AFC-AA80-8135DF2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C23C-BE33-467C-9770-1FCB13BA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588D-DDA6-4F60-8122-E9F28ECE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A17E-F091-4723-A79D-4256BF55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A02-958B-4632-BD49-42BD7534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4673F-FAFA-4F02-A0F2-2B6CC8F4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9F6B-8478-4A24-9C8A-16D23911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9A0D-54DD-4253-8B58-7963379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A3A5-0D9F-4988-A0D1-3D36827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A1D0-2A4E-44BD-A969-395DB514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BBA3B-3D31-423D-90C4-E978984D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2949-F686-4EAD-94DE-60AA8C34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4F24-A531-4B21-A3DD-4458C2BE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5CA1-2167-4F26-B7DC-6A12E7B2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5C7BF-E064-4EFE-B35E-A821F54E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EFE-0D73-401C-9F04-81AE1117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4981-9D6C-41DF-A159-9772F1CE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0BC74-3B82-4E18-AD59-61B595B9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33DB-C52D-44F6-ACCE-46C7A189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AB31-1A84-4E91-A8A9-178E082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D9BA-4267-4490-A502-82A13B72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3C3DC-132B-4C0D-952C-503C24D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C560-817D-49B6-9AEC-9E07521E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0EE0-44D6-409F-93C1-ECA3A2A3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B763-8E89-4D23-8830-C7FECC83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C3DA0-05B4-46EE-8D68-C3998F42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345-91DC-4BEB-B36F-36504382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1B70D-C451-4B15-9426-72544526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E3C0A-8D76-49FE-AAF1-96F74D98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561DF-92CB-4BF2-915F-644D7BDF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FBB80-BCE2-4F1E-8B45-756B3EC0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857D5-6CF0-457B-80C5-E614A974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6B7B1-793E-41CF-97EB-6AB560C9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4F99-7F31-4E2C-9A30-E203313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E10B0-581A-4F6F-B17C-275850EB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B78B-8BDE-4797-BF99-B71A08A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BD99F-D1AC-409F-85C3-8BA546B8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FCF-8CFC-42E5-812F-D87803EF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A5CCC-0504-45E4-B9AC-EE3AA414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E7FB5-7DEB-4E4E-8698-CFDCA012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BB89-F063-4EDD-B142-92558593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E0414-3FB9-4AFB-AE0A-91132524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61781-E46D-476C-AA7A-916C439C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25C4-AE33-4539-9193-E655610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A114E-557C-4879-9064-BE822215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E276-6C01-4857-898F-2227AD3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C334C-5044-42BB-BB84-23EA8E7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B058D-7D92-45E6-B6F7-69C04599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548-0BEF-4E1F-9092-76C94F4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351E-EFAB-46B2-92BC-7790C61D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15136-7C30-40E9-BC12-04D02A99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B6D9E-D6FD-44FD-BAA4-554B9BB4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04F6A-4974-4B64-B298-DFC8F169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87C73-3D58-4EAE-BA79-4E7847D6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49AD2-FB95-48CA-9937-F21EBBA6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5033-9893-490D-B14B-54468AD2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CE0F9-2C6C-4DEF-AF83-10F087B6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F6003-D84C-42EC-BFEE-81402714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5C1CD-D5D6-496B-90D3-4DC29460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1D1-F439-4D7B-AE41-FA8FCB9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F904D-3FFD-4A0E-96D9-7CCE8F9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3F6A1-50E2-4ED8-BA85-980D37D5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FD76B-2CB0-446A-B293-967AA32F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BB83A-2415-4ED7-81DA-22F24DBA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3C38-3442-4159-A890-E9FC0099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DA1BD-9FA8-4986-BE74-4E693FAE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F128A-687D-40C7-8EF8-EF55E514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C81BB-4572-4E9F-AFE4-ABED36DD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C14C2-FE8D-4337-9AFD-336613AA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5433E-24BC-4CC4-B6B9-36A9D80C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3EE-4C7A-4154-B3F2-2B0EFAA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C3FF-27EF-4E05-BADB-97DD3BA7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7D0E2-80AA-4867-A293-82E993C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1E3B0-388D-4AAF-AB6D-BA51C3C3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61AB4-FA5F-44B4-B52D-B06240B9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42D57-3E5D-4AD5-9347-2544CA8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32893-EFB5-4CAB-9DB9-908449FB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DABC5-275F-4A03-9387-BE0BD23D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16A6C-7358-4B4D-8D9C-4BDFD66E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BEF7D-6C4E-4B33-B560-39D6CE74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2C0FE-0D0D-42E1-B8BF-BF04D190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0410-A3FE-4669-B417-A5498D775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625E-BC36-4BF3-95E4-1B11B42E7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EAB9-D70E-4D4C-8EEF-2E557D2F35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67D-D2E1-4081-9582-7630ABC45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069B-DE51-4A15-B504-01E2EDC92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7C09-88C8-423B-9B39-E0C602A9D4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E87-8A8E-4ADF-90C2-828C6B284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EEAF-8545-4801-B9B9-CEC1BCB830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B3BC-07A0-4C86-B68D-0E97ECB090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30C9-C05F-4FF0-B07F-7A76B2AEC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F2B3-B666-4162-874C-BF1E83FD1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8C9F-2E59-4D08-8899-546192A64C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31D6-626F-42FC-BB8B-659730C8C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8BD7-E6E6-4FA1-BE87-44E5007CE0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00AC-19FE-4FBF-9A96-1B5614A9B8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EAE4-44BE-4608-BDB3-955120DDB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478-F09B-4C83-BC55-DC28D770D9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C798-975D-421B-B48F-154F977A94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A27E-66F3-4A18-8047-C598F19796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74D9-3D89-4A7C-9803-7A0E5ED524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D9B6-CB6F-4830-9C28-FC807979E0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32F9-DA3C-4DA3-B784-0160474B0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E25-4AF2-4C72-A94B-A4BA906A71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C188-0CFE-401D-BDDF-71E51AA1B2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362E-2BC7-43F1-A276-71CE2BAC4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0090-CF57-45AB-8B03-80D668F1DF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5299-A12C-4916-9FF5-F8F4557BBC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4352-C9F9-4D31-ACFD-FF903442D4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5E22-9281-4EF1-B9C6-45B95ACB70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0C69-072E-457B-AEA9-C72998AF26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CF01-A6D7-4A78-B20F-DD2915399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2C9B-1159-48F8-9D0A-47FF31D27A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360B-0408-436A-98D9-47564D238E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E7C7-2004-46E1-A90C-70402534D3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1463-B178-44DB-AED5-96D11DDD76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4F36-3CD5-42EC-9B54-B3C25FF7FF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55EC-4263-44B9-8E31-545421CA6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233C-DC6E-42EE-939D-BB35C78B9D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8B03-2C49-4346-8321-4935439425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2B4C-D0D4-436F-82B0-89DB4F92F7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72200" cy="126684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25772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9633" descr=""/>
          <p:cNvPicPr/>
          <p:nvPr/>
        </p:nvPicPr>
        <p:blipFill>
          <a:blip r:embed="rId1"/>
          <a:stretch/>
        </p:blipFill>
        <p:spPr>
          <a:xfrm>
            <a:off x="257040" y="1704960"/>
            <a:ext cx="8629920" cy="3448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7956720" y="2981160"/>
            <a:ext cx="51732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8609" descr=""/>
          <p:cNvPicPr/>
          <p:nvPr/>
        </p:nvPicPr>
        <p:blipFill>
          <a:blip r:embed="rId1"/>
          <a:stretch/>
        </p:blipFill>
        <p:spPr>
          <a:xfrm>
            <a:off x="247680" y="907920"/>
            <a:ext cx="8648640" cy="276228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68610" descr=""/>
          <p:cNvPicPr/>
          <p:nvPr/>
        </p:nvPicPr>
        <p:blipFill>
          <a:blip r:embed="rId2"/>
          <a:stretch/>
        </p:blipFill>
        <p:spPr>
          <a:xfrm>
            <a:off x="3564000" y="3789360"/>
            <a:ext cx="2162160" cy="26478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8028000" y="2060640"/>
            <a:ext cx="5176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7585" descr=""/>
          <p:cNvPicPr/>
          <p:nvPr/>
        </p:nvPicPr>
        <p:blipFill>
          <a:blip r:embed="rId1"/>
          <a:stretch/>
        </p:blipFill>
        <p:spPr>
          <a:xfrm>
            <a:off x="257040" y="1268280"/>
            <a:ext cx="8629920" cy="213372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67586" descr=""/>
          <p:cNvPicPr/>
          <p:nvPr/>
        </p:nvPicPr>
        <p:blipFill>
          <a:blip r:embed="rId2"/>
          <a:stretch/>
        </p:blipFill>
        <p:spPr>
          <a:xfrm>
            <a:off x="3059280" y="3716280"/>
            <a:ext cx="2781000" cy="28004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8028000" y="2378160"/>
            <a:ext cx="5176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6561" descr=""/>
          <p:cNvPicPr/>
          <p:nvPr/>
        </p:nvPicPr>
        <p:blipFill>
          <a:blip r:embed="rId1"/>
          <a:stretch/>
        </p:blipFill>
        <p:spPr>
          <a:xfrm>
            <a:off x="266760" y="1290600"/>
            <a:ext cx="8610480" cy="4276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6516720" y="185904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10083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65537" descr=""/>
          <p:cNvPicPr/>
          <p:nvPr/>
        </p:nvPicPr>
        <p:blipFill>
          <a:blip r:embed="rId1"/>
          <a:stretch/>
        </p:blipFill>
        <p:spPr>
          <a:xfrm>
            <a:off x="179280" y="915840"/>
            <a:ext cx="8782200" cy="265752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65538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26481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4513" descr=""/>
          <p:cNvPicPr/>
          <p:nvPr/>
        </p:nvPicPr>
        <p:blipFill>
          <a:blip r:embed="rId1"/>
          <a:stretch/>
        </p:blipFill>
        <p:spPr>
          <a:xfrm>
            <a:off x="433440" y="781200"/>
            <a:ext cx="8277120" cy="57434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395280" y="1355760"/>
            <a:ext cx="5761080" cy="4604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128520" y="1944720"/>
            <a:ext cx="5761080" cy="4604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324000" y="2492280"/>
            <a:ext cx="5760720" cy="4604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250920" y="3068640"/>
            <a:ext cx="5761080" cy="4604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468360" y="3645000"/>
            <a:ext cx="5761080" cy="4604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395280" y="4292640"/>
            <a:ext cx="5761080" cy="4604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8"/>
          <a:stretch/>
        </p:blipFill>
        <p:spPr>
          <a:xfrm>
            <a:off x="395280" y="4869000"/>
            <a:ext cx="8137440" cy="4600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9"/>
          <a:stretch/>
        </p:blipFill>
        <p:spPr>
          <a:xfrm>
            <a:off x="324000" y="5445000"/>
            <a:ext cx="8137440" cy="4604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10"/>
          <a:stretch/>
        </p:blipFill>
        <p:spPr>
          <a:xfrm>
            <a:off x="468360" y="6021360"/>
            <a:ext cx="813744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3489" descr=""/>
          <p:cNvPicPr/>
          <p:nvPr/>
        </p:nvPicPr>
        <p:blipFill>
          <a:blip r:embed="rId1"/>
          <a:stretch/>
        </p:blipFill>
        <p:spPr>
          <a:xfrm>
            <a:off x="266760" y="933480"/>
            <a:ext cx="8610480" cy="55911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755640" y="2622600"/>
            <a:ext cx="5832360" cy="4604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684360" y="3170160"/>
            <a:ext cx="5832360" cy="4604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611280" y="3789360"/>
            <a:ext cx="5832360" cy="4604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5832360" cy="4604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6"/>
          <a:stretch/>
        </p:blipFill>
        <p:spPr>
          <a:xfrm>
            <a:off x="826920" y="4897440"/>
            <a:ext cx="5832720" cy="4604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7"/>
          <a:stretch/>
        </p:blipFill>
        <p:spPr>
          <a:xfrm>
            <a:off x="755640" y="5502240"/>
            <a:ext cx="5832360" cy="4604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8"/>
          <a:stretch/>
        </p:blipFill>
        <p:spPr>
          <a:xfrm>
            <a:off x="684360" y="6035760"/>
            <a:ext cx="58323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62465" descr=""/>
          <p:cNvPicPr/>
          <p:nvPr/>
        </p:nvPicPr>
        <p:blipFill>
          <a:blip r:embed="rId1"/>
          <a:stretch/>
        </p:blipFill>
        <p:spPr>
          <a:xfrm>
            <a:off x="316080" y="76320"/>
            <a:ext cx="8648640" cy="67053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2"/>
          <a:stretch/>
        </p:blipFill>
        <p:spPr>
          <a:xfrm>
            <a:off x="826920" y="1787400"/>
            <a:ext cx="4608720" cy="4604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826920" y="2349360"/>
            <a:ext cx="5761080" cy="4604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4"/>
          <a:stretch/>
        </p:blipFill>
        <p:spPr>
          <a:xfrm>
            <a:off x="539640" y="2924280"/>
            <a:ext cx="5761080" cy="4604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5"/>
          <a:stretch/>
        </p:blipFill>
        <p:spPr>
          <a:xfrm>
            <a:off x="539640" y="3500280"/>
            <a:ext cx="5761080" cy="4604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6"/>
          <a:stretch/>
        </p:blipFill>
        <p:spPr>
          <a:xfrm>
            <a:off x="539640" y="4076640"/>
            <a:ext cx="5761080" cy="4604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7"/>
          <a:stretch/>
        </p:blipFill>
        <p:spPr>
          <a:xfrm>
            <a:off x="539640" y="4710240"/>
            <a:ext cx="5761080" cy="1598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8"/>
          <a:stretch/>
        </p:blipFill>
        <p:spPr>
          <a:xfrm>
            <a:off x="539640" y="6369120"/>
            <a:ext cx="4753080" cy="4604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9"/>
          <a:stretch/>
        </p:blipFill>
        <p:spPr>
          <a:xfrm>
            <a:off x="5364000" y="6369120"/>
            <a:ext cx="34560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图片 61441" descr=""/>
          <p:cNvPicPr/>
          <p:nvPr/>
        </p:nvPicPr>
        <p:blipFill>
          <a:blip r:embed="rId1"/>
          <a:stretch/>
        </p:blipFill>
        <p:spPr>
          <a:xfrm>
            <a:off x="233280" y="733320"/>
            <a:ext cx="8677440" cy="56484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2"/>
          <a:stretch/>
        </p:blipFill>
        <p:spPr>
          <a:xfrm>
            <a:off x="755640" y="2478240"/>
            <a:ext cx="6048360" cy="4600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6048360" cy="4604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684360" y="3645000"/>
            <a:ext cx="6048360" cy="4604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6048360" cy="4604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6"/>
          <a:stretch/>
        </p:blipFill>
        <p:spPr>
          <a:xfrm>
            <a:off x="539640" y="4724280"/>
            <a:ext cx="6048360" cy="4604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7"/>
          <a:stretch/>
        </p:blipFill>
        <p:spPr>
          <a:xfrm>
            <a:off x="539640" y="5373720"/>
            <a:ext cx="6048360" cy="4604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8"/>
          <a:stretch/>
        </p:blipFill>
        <p:spPr>
          <a:xfrm>
            <a:off x="539640" y="5891040"/>
            <a:ext cx="60483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1595520" y="1095480"/>
            <a:ext cx="5952960" cy="4667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6516720" y="3514680"/>
            <a:ext cx="1079640" cy="434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979640" y="4091040"/>
            <a:ext cx="1079640" cy="4348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2195640" y="5229360"/>
            <a:ext cx="158436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59410" descr=""/>
          <p:cNvPicPr/>
          <p:nvPr/>
        </p:nvPicPr>
        <p:blipFill>
          <a:blip r:embed="rId1"/>
          <a:stretch/>
        </p:blipFill>
        <p:spPr>
          <a:xfrm>
            <a:off x="1604880" y="852480"/>
            <a:ext cx="5934240" cy="56008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5003640" y="822240"/>
            <a:ext cx="2376720" cy="4352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5580000" y="1384200"/>
            <a:ext cx="2376720" cy="4352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908000" y="1944720"/>
            <a:ext cx="863640" cy="434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3924360" y="3097080"/>
            <a:ext cx="1511280" cy="4352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3924360" y="3659040"/>
            <a:ext cx="1511280" cy="4352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6948360" y="3673440"/>
            <a:ext cx="1511280" cy="434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1547640" y="4249800"/>
            <a:ext cx="1511640" cy="434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3780000" y="4811760"/>
            <a:ext cx="1152360" cy="434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0"/>
          <a:stretch/>
        </p:blipFill>
        <p:spPr>
          <a:xfrm>
            <a:off x="6084720" y="4811760"/>
            <a:ext cx="115272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8373" descr=""/>
          <p:cNvPicPr/>
          <p:nvPr/>
        </p:nvPicPr>
        <p:blipFill>
          <a:blip r:embed="rId1"/>
          <a:stretch/>
        </p:blipFill>
        <p:spPr>
          <a:xfrm>
            <a:off x="1652760" y="2328840"/>
            <a:ext cx="5838480" cy="2200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5651640" y="2290680"/>
            <a:ext cx="1008000" cy="4348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4572000" y="4019400"/>
            <a:ext cx="21607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7352" descr=""/>
          <p:cNvPicPr/>
          <p:nvPr/>
        </p:nvPicPr>
        <p:blipFill>
          <a:blip r:embed="rId1"/>
          <a:stretch/>
        </p:blipFill>
        <p:spPr>
          <a:xfrm>
            <a:off x="1743120" y="646200"/>
            <a:ext cx="5924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6324" descr=""/>
          <p:cNvPicPr/>
          <p:nvPr/>
        </p:nvPicPr>
        <p:blipFill>
          <a:blip r:embed="rId1"/>
          <a:stretch/>
        </p:blipFill>
        <p:spPr>
          <a:xfrm>
            <a:off x="1662120" y="2610000"/>
            <a:ext cx="5819760" cy="16380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3606840" y="3789360"/>
            <a:ext cx="4888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5300" descr=""/>
          <p:cNvPicPr/>
          <p:nvPr/>
        </p:nvPicPr>
        <p:blipFill>
          <a:blip r:embed="rId1"/>
          <a:stretch/>
        </p:blipFill>
        <p:spPr>
          <a:xfrm>
            <a:off x="252360" y="781200"/>
            <a:ext cx="8639280" cy="5295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8302680" y="2320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825804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4276" descr=""/>
          <p:cNvPicPr/>
          <p:nvPr/>
        </p:nvPicPr>
        <p:blipFill>
          <a:blip r:embed="rId1"/>
          <a:stretch/>
        </p:blipFill>
        <p:spPr>
          <a:xfrm>
            <a:off x="223920" y="1514520"/>
            <a:ext cx="8696160" cy="3828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831708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5435640" y="3587760"/>
            <a:ext cx="14414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2231" descr=""/>
          <p:cNvPicPr/>
          <p:nvPr/>
        </p:nvPicPr>
        <p:blipFill>
          <a:blip r:embed="rId1"/>
          <a:stretch/>
        </p:blipFill>
        <p:spPr>
          <a:xfrm>
            <a:off x="258840" y="189000"/>
            <a:ext cx="8705880" cy="63529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8317080" y="563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755640" y="6135840"/>
            <a:ext cx="107964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12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